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661680" y="463320"/>
            <a:ext cx="547380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C19-AEFE-42A6-AE6B-9489930362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CD4-B002-4E38-8581-812CCAFCF53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6933-856F-4B40-BF16-73D66AF85E7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에 대한 탈신비화와 일반적 해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록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별적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번 지진은 왕의 무슨 잘못 때문에 신이 노하여 일어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0B2C-1C3E-4377-B01C-7E0AEF4011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이 아닌 증명에 관심을 가졌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 탐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지식에 책임과 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불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개인의 몫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1F2-90EB-49CA-85FE-BD01B22E3FD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레토스 학파의 성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과학적 질문을 던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면에서 새로운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비실용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본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의 방식도 정해져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탈신화화되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805-1AE8-4A06-A56A-CCCCA3A7FC9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AFFA-5956-45F0-BD18-F765AB7C739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대의 약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물의 대립물인 불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은 물을 끓여 없애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은 불을 꺼버린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불이 물로부터 나올 수 있겠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한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형의 초기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페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부터 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등의 이원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나오고 세계가 나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은 무에서 나올 수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립물인 흙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대립하는 두 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응축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화의 힘이 존재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가 다양한 밀도로 응축되어 액체와 고체가 되기도 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해져서 불이 되기도 한다고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엠페도클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로 이루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년 동안 영향력 발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 사이에는 사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싸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인력과 척력 존재한다고 생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625A-4200-4CF6-9C90-D98A5E0A567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570-72A6-4177-BCEF-84EE9260934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4F9-B3B8-4035-B000-5CC9CA5C0EF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05B-D9A9-4007-ADE7-06A29D1262C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E7C-8075-44A1-B6F1-ACD6E8246C42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6BA7-8FAA-4B78-81FD-4C22BF2E03E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366840" y="0"/>
            <a:ext cx="5848200" cy="4387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각 문명의 공통점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큰 강 옆에 있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나일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유프라테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티그리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인더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황화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고대 문명 탄생에 대한 가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자원 가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‘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환경적 제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의 문명은 강과 가까운 곳에 위치한 계곡과 평지에서 주로 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런 지역은 고밀도 농업이 실용성을 갖거나 가능하도록 하는 환경적 범위가 제한되어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 나일강 유역처럼 제한된 거주지에 사는 신석기인들은 인구가 팽참함에 따라 곧 사막과 폭포와 바다가 설정한 환경적 한계에 부딪혔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식량의 생산량을 늘리지 않을 수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쟁이 점점 일상화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습격의 수준을 넘어 정복과 노예화를 포함한 형태로 발전해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거주지가 포화된 상태였으므로 패자들이 장소를 옮겨 새로운 농업 공동체를 건설하는 것이 불가능했기 때문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특히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치수관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조직적 활동 필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중앙 권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32A-BAF3-4DC1-A9E7-1123EE07D46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가 다섯 개인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가지는 상호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흙은 불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도 불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752-2CA5-4286-B580-BD3033E42EC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346-813A-4BCE-8DDE-812577877B4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3680-FFA7-4B70-A60C-F90A2A7F864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1F5A-4507-4D2D-A952-63F50BD13E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F05-55A4-4739-BA86-2857D26DB67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9AD6-ED34-414C-9E9E-4DC8C7A8FEE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도 끝도 없는 완전한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0BB-6CFB-4CED-8685-1635F1A0C42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FCA5-BC59-4A04-A403-21F0B70CB65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5540400"/>
            <a:ext cx="5438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무게와 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의 본래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치 규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호수와 바다가 흙 위에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속에서 기포가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공기 중의 불이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우주의 중심에 지구가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구가 구형인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동설 논박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56B4-D6C5-4B1A-80E0-ACCFB68785DF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5395680"/>
            <a:ext cx="5438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465E-7CD9-4B8B-BCEF-A785D082FB8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47720" y="500040"/>
            <a:ext cx="5086440" cy="3816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래 신석기 시대와 구석기 시대를 살던 사람들은 전쟁에서 패배한 뒤에 일반적으로 새로운 곳으로 옮겨갈 수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나일강 유역처럼 환경적으로 제한된 지역의 농부들은 달리 갈 곳이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승자들은 땅과 관개시설을 점령했을 뿐 아니라 패배한 집단을 정복하고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밀도 농업 시스템을 유지하는 데에 패자들을 노예와 농노로 부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과정이 일단 시작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합과 집중을 유도하는 역사적인 흐름을 되돌릴 수 없게 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신석기 사회는 점점 더 계급화되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급 구조의 정점에 오른 소수 특권층이 하층 농민들을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역적인 권력이 국지적인 권력을 포괄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최소한 신석기 시대의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50%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이상 잉여 곡물 증가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60B-5E64-4869-B71E-8A94B22B2D39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씨앗의 잠재력이 실현되는 과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위치의 변화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물질의 본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본래 위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 실현되는 과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지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스러운 운동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연스러운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물 자체의 속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발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천체의 원운동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돌의 수직낙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불의 수직상승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별도의 외적 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력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필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수레의 운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돛단배의 운동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(cf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던져진 투창은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3FE-40AB-45D0-B6E1-6E7072BE450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문제를 잘 체계적으로 설명한다고 생각하면 오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.g.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사체의 운동 잘 설명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B3AE-0A80-43F9-AECC-64D40E062FF4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06400" y="500040"/>
            <a:ext cx="5184720" cy="3887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무엇을 알 수 있을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문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고도의 종교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신화적 이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의식 절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조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세공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미라제작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문학적 지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계급 지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리 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중앙집권적 권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동원능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자의 쿠푸 피라미드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원전 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2789-2767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인류 역사상 가장 큰 석조 건축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부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㎦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48m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평균 무게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.5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톤에 달하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3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개의 돌로 구성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당한 수준의 수학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공학적 지식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정확한 방향 설정을 위해서도 전문적 기술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일차적으로는 엄청난 노동력의 산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약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의 기술자가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동원되어 완성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기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경 중국 대운하 건설에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55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38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투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축 이유에 대한 재밌는 학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 자체로 국가의 기술을 훈련하기 위한 활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초기 피라미드들은 농한기에 군중을 동원하여 국가가 존재한다는 생각을 강화하기 위해 벌인 거대 건축사업의 결과물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하나 이상의 피라미드가 동시에 건축된 이유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점차 노동력이 남아돌았기 때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러므로 기념비적 건축은 초기 이집트 국가의 제도적인 근육운동이라 할 수 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마치 오늘날의 무기 산업처럼 말이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설은 상징적으로뿐 아니라 그 자체로도 국가 건설이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E1F-17B0-406C-9AB7-E402A87B70E6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533520" y="0"/>
            <a:ext cx="5657760" cy="4243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추상화 능력 반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구전과 인간의 기억력 대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인 필요에서 가장 중요한 기술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체계 하에서 언어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수량적 정보 기록할 필요 절실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투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행정 관련 기록 보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장부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대부분 경제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 목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scribe)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은 사회적 지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 또는 전문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보장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최초의 학교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글과 수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후에는 신화와 전설 가르침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에두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판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정부 관료 또는 회계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점성가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천문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수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의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기술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교사 등의 전문가가 될 수 있었음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본적으로는 표의문자의 성격을 띠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표음문자적인 요소도 함께 가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집트 상형문자는 공식적으로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개가 확인되었지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파라오에게 소속된 조각가와 필기사들은 수천 년 동안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700-8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개의 문자만 사용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순전히 소리값만 가진 알파벳 기호는 좀더 나중에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차 문명에서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기원전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1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이후에 페니키아인과 함께 등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바빌로니아 숫자 체계에서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 없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리로만 판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C9F-D65A-49C6-B0D9-3900F05C98D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30120" y="0"/>
            <a:ext cx="5850000" cy="43876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록 보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치적 행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경제적 교역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확한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축과 토목 사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약품과 치료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적 예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익명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식은 국가기관에 소속된 전문가들의 몫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인적인 발견보다는 사회 유지에 기여하는 것에 관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ECF9-BE24-40A5-B989-7D028EFF9A8C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철학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 발명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식 자체를 위한 지식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원초문명의 실용적 지식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에 대한 탈신비화와 객관화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신화적 우주론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보편적 현상에 대한 일반적 해명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목록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익명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문을 위한 제도적 기관 無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공적 지원 無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파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인 모임이나 동아리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인의 지적 재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책임과 명예는 모두 개인의 몫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합리적인 비판과 논쟁의 전통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용적 욕심 없는 자연에 대한 추상적인 사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기술 활동과 동떨어진 놀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유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성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절대 권위 없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적인 논쟁도 권위에 호소하지 않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밀레토스 학파의 철학자들은 타인의 생각에 동의하지 않았으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성과 논리와 관찰을 통해 타인의 생각을 공격하고 자신의 주장을 뒷받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최근의 연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집트 문화가 에게 해 주변의 헬레나 문화 발전에 영향을 미치긴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헬레나 세계의 내부에서도 다양한 마술과 민간 전승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점성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종교적 신비주의 등이 민중 속에서 여전히 유행했다는 사실은 이들과 과학지식이 경쟁했음을 시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00F-5BE3-4EB5-AF43-E161D77C03F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FDFE-C6B0-49E8-A425-F77A76A6F7C8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관심하다는 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별만 바라보고 걷던 나머지 우물에 빠졌다는 탈레스의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러 들어갔다는 해석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의 일식 예측하여 전쟁 종식시켰다는 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심한 탈레스의 대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도 원한다면 나의 지혜를 이용하여 돈을 벌 수 있음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얼마나 쉽게 부자가 될 수 있는가를 보여준 적이 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탈레스는 한번은 이 노새에게 스펀지를 운반하게 해서 골치아픈 노새의 습관을 없애버렸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C76-6150-472A-B854-3DE20AE3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51C-E567-4786-A727-E530FC38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5CF-5F1A-4C11-8D8F-21CCFAE7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53A-3E78-4551-B53D-0F5FF07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AE3E-7469-49F6-80F8-58BAFFB0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10C-99C0-43D3-A893-C828198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669-9DD2-43B8-96EA-D41D4FE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32A-69B7-4166-831F-088F481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E21-EE44-4356-A890-163D3CC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9508-708D-4ABA-B0B2-8DF4751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7BC-6C70-4156-B3DB-9DF88F3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D86-96D6-48D5-B418-4C4489B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6D3C-BDDD-4F96-B392-CA10388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8CA-B908-4499-95FC-C82463A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35D-9F76-442E-9001-8B637DB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7A9-6322-4F51-9FB4-F9A6B6FE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4975-1624-48B0-BAD7-CFA80315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7898F-D5D7-4408-A18F-AEC1D0C3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F147E-0E8B-480D-9F14-8DF5492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51DA-907C-4DB5-A08D-E89BC06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5AFF-F133-476C-BD96-0708B20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9FAAA-B66E-4F20-984E-59423BB7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A49-F60C-4359-8E40-DFF0487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17B8B-3325-4691-BE96-8780AC7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41D7F-C80B-4A43-B477-654A0BAD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C4530-0F0F-4931-8ECA-00D33BD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6F7A3-ACD1-4549-8CD4-B572721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89213-4554-498E-9660-B9D9220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1DA20-5847-4F30-B884-5470916E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5E134-99BD-482A-A801-3EF11CD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87FC-433C-480B-AA62-A135FEC0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8DC3-E13E-489D-8714-5D526C2E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C0836-C8C6-44BB-B1F0-1E5250A0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617-4637-4D33-88D8-7264F81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2547-AF6D-495C-900A-49BEDE7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39E7-FD13-40BC-8B41-EBD6D35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02B2-0914-44C2-B64E-D0A8A54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CDB7-CDFC-4188-BEAC-4A5EC0C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CDE6-DA8D-4759-B0EF-90DF7CC8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E53D-6C36-4FDE-A8EE-F3219CF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58D0-69D2-4586-AF57-46E9B375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97B1-1826-4EBF-8F4A-2196CBCE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698C-A3D8-40E4-A23D-9E75ECEA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F321B-E2A3-4AE7-8E0E-14975C95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E94-93D1-4B45-B35B-A1BC741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7C94-C549-4391-9851-ACD48EF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51EF-7DE0-44C3-A3E1-DEDAC96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2315-E4F1-4FDB-BA8E-626EED19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47F9-F5B1-4AD7-8BA0-068079B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82E7-7222-498E-86DC-947CCD1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0C5D-D0B0-4435-A531-98FA4CF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1D3A-7DBF-4C45-B101-E87E3F6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6DB75-0763-4C8B-A2F9-FFFB0D9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B26D-02E0-42EF-B4F2-6E9A7B4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B87D-08B6-46B3-BDAA-5484A04F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361-758B-4883-8ED6-8F6E38B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10BD-2ECA-4264-BD1F-0008850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F248-62ED-4962-B855-205E1E24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FA1F-2A2C-4DC4-A252-A7C5ADB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3FF5-AA7E-4BE9-A70E-8D976B4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8C4DE-7D99-4385-A7AC-89CBFC1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1AAF-969E-445E-B48A-C5687D64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08C8-2853-4111-9A1F-1FD3191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F8F5-DD69-4DE5-998A-0A32101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34D6-A6DE-4821-B67C-3EE7D8A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94C4-567F-48DD-87A3-6F54D70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4F8-7D86-4742-A7B4-EC34BF6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84DB-9172-4C16-BB74-FDA2162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846B-5BE2-4EF7-98A7-8082F4C2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44A8-66D3-4EAB-9941-EB6367FB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B7E-F817-4B1A-B1C2-7BECB0E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B1E-0BA6-4C3D-837C-E1005D1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3D5D-BA4F-4216-B18A-2489198722B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A27-8932-4666-A09F-DEB238CE3060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6EE-03EC-441C-952F-E41C041B4D2C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EB2-51EF-409C-8639-76EE7944834F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5301-0BF1-406E-9AC8-AEE006E8CD62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889-AB4C-4F19-9C4A-37B3FF28C4EE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Trebuchet MS"/>
              </a:rPr>
              <a:t>과학의 시작은 고대 그리스에서</a:t>
            </a:r>
            <a:endParaRPr b="0" lang="en-US" sz="44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과학기술의 융합적 이해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주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2013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년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9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월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12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일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동욱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식 자체를 위한 지식 탐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별만 바라보고 걷던 나머지 우물에 빠졌다는 일화의 주인공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에 대한 탈신비화된 설명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구는 물 위에 나무토막이나 배처럼 떠 있으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br>
              <a:rPr sz="2100"/>
            </a:b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진은 물의 움직임 때문에 발생한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의 정리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4797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개인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에 의해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증명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된 명제의 탄생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8" name="Picture 4" descr="Thales-theorem"/>
          <p:cNvPicPr/>
          <p:nvPr/>
        </p:nvPicPr>
        <p:blipFill>
          <a:blip r:embed="rId1"/>
          <a:stretch/>
        </p:blipFill>
        <p:spPr>
          <a:xfrm>
            <a:off x="2771640" y="692280"/>
            <a:ext cx="3613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새로운 과학적 질문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는 무엇으로 이루어졌는가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질의 기초에 대한 논쟁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탈레스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무한자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apeiron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메네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pneuma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엠페도클레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네 뿌리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합리적 비판과 논쟁 </a:t>
            </a:r>
            <a:r>
              <a:rPr b="0" lang="en-US" sz="21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밀레토스 학파 형성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C.f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피타고라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수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데모크리토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우주 체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61038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고대의 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5" name="Picture 5" descr="%EC%95%84%EB%82%99%EC%8B%9C%EB%A7%8C%EB%93%9C%EB%A1%9C%EC%8A%A4%EC%9D%98_%EC%9A%B0%EC%A3%BC_%EC%B2%B4%EA%B3%84"/>
          <p:cNvPicPr/>
          <p:nvPr/>
        </p:nvPicPr>
        <p:blipFill>
          <a:blip r:embed="rId1"/>
          <a:stretch/>
        </p:blipFill>
        <p:spPr>
          <a:xfrm>
            <a:off x="1692360" y="907920"/>
            <a:ext cx="6041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그리스 </a:t>
            </a:r>
            <a:r>
              <a:rPr b="1" lang="en-US" sz="4300" spc="-1" strike="noStrike">
                <a:solidFill>
                  <a:srgbClr val="ffc000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자연철학</a:t>
            </a:r>
            <a:r>
              <a:rPr b="1" lang="en-US" sz="4300" spc="-1" strike="noStrike">
                <a:solidFill>
                  <a:srgbClr val="ffc000"/>
                </a:solidFill>
                <a:latin typeface="Trebuchet MS"/>
              </a:rPr>
              <a:t>’</a:t>
            </a:r>
            <a:r>
              <a:rPr b="1" lang="ko-KR" sz="4300" spc="-1" strike="noStrike">
                <a:solidFill>
                  <a:srgbClr val="ffc000"/>
                </a:solidFill>
                <a:latin typeface="Trebuchet MS"/>
              </a:rPr>
              <a:t>의 발명지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식 자체를 위한 지식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실용적 지식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자연에 대한 탈신비화와 객관화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보편적 현상에 대한 일반적 해명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사적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–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합리적 비판과 논쟁의 전통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athenslarge"/>
          <p:cNvPicPr/>
          <p:nvPr/>
        </p:nvPicPr>
        <p:blipFill>
          <a:blip r:embed="rId1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481800" cy="1362240"/>
          </a:xfrm>
          <a:prstGeom prst="rect">
            <a:avLst/>
          </a:prstGeom>
          <a:solidFill>
            <a:srgbClr val="424456">
              <a:alpha val="6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과 아리스토텔레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Plato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428-327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2160" y="50133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의 愛 제자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 사후 이탈리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/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이집트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여행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테네로 돌아온 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Academeia)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설립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현실세계는 이데아의 불완전한 복제품</a:t>
            </a:r>
            <a:endParaRPr b="0" lang="en-US" sz="35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2160" y="191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목수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의자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=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조물주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세계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현실세계는 조물주의 합리적 설계의 산물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755640" y="3933720"/>
          <a:ext cx="7667640" cy="1224000"/>
        </p:xfrm>
        <a:graphic>
          <a:graphicData uri="http://schemas.openxmlformats.org/drawingml/2006/table">
            <a:tbl>
              <a:tblPr/>
              <a:tblGrid>
                <a:gridCol w="1533600"/>
                <a:gridCol w="1562040"/>
                <a:gridCol w="1873080"/>
                <a:gridCol w="1868760"/>
                <a:gridCol w="830160"/>
              </a:tblGrid>
              <a:tr h="61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이데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611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현실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모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복제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∵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질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그림 2주 최초의 문명들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132000" y="5375160"/>
            <a:ext cx="2880000" cy="581400"/>
          </a:xfrm>
          <a:prstGeom prst="rect">
            <a:avLst/>
          </a:prstGeom>
          <a:solidFill>
            <a:srgbClr val="5c9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최초의 문명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을 모르는 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들어오지 말라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 정문 위의 경구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(5)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론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01" name="Picture 4" descr="platonic6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elestial sphere)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영원한 등속 원운동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04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ristotle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384-322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의 愛 제자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 사후 에게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소아시아 여행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아테네로 돌아온 후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리케이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(Lykeion)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설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2520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데아는 대상 속에 존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2160" y="49413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대상의 본질은 물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matter)+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형상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form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10" name="Picture 30" descr="dog"/>
          <p:cNvPicPr/>
          <p:nvPr/>
        </p:nvPicPr>
        <p:blipFill>
          <a:blip r:embed="rId1"/>
          <a:stretch/>
        </p:blipFill>
        <p:spPr>
          <a:xfrm>
            <a:off x="2411280" y="907920"/>
            <a:ext cx="232092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31"/>
          <p:cNvGrpSpPr/>
          <p:nvPr/>
        </p:nvGrpSpPr>
        <p:grpSpPr>
          <a:xfrm>
            <a:off x="3432960" y="1918440"/>
            <a:ext cx="4361040" cy="1985760"/>
            <a:chOff x="3432960" y="1918440"/>
            <a:chExt cx="4361040" cy="1985760"/>
          </a:xfrm>
        </p:grpSpPr>
        <p:sp>
          <p:nvSpPr>
            <p:cNvPr id="412" name="Line 32"/>
            <p:cNvSpPr/>
            <p:nvPr/>
          </p:nvSpPr>
          <p:spPr>
            <a:xfrm flipH="1">
              <a:off x="4798440" y="2134440"/>
              <a:ext cx="75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Text Box 33"/>
            <p:cNvSpPr/>
            <p:nvPr/>
          </p:nvSpPr>
          <p:spPr>
            <a:xfrm>
              <a:off x="5653440" y="1918440"/>
              <a:ext cx="214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이데아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idea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Text Box 34"/>
            <p:cNvSpPr/>
            <p:nvPr/>
          </p:nvSpPr>
          <p:spPr>
            <a:xfrm>
              <a:off x="3432960" y="3139920"/>
              <a:ext cx="312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플라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이데아의 불완전한 복제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415" name="Group 35"/>
          <p:cNvGrpSpPr/>
          <p:nvPr/>
        </p:nvGrpSpPr>
        <p:grpSpPr>
          <a:xfrm>
            <a:off x="3103200" y="1341360"/>
            <a:ext cx="4437000" cy="2460600"/>
            <a:chOff x="3103200" y="1341360"/>
            <a:chExt cx="4437000" cy="2460600"/>
          </a:xfrm>
        </p:grpSpPr>
        <p:sp>
          <p:nvSpPr>
            <p:cNvPr id="416" name="Line 36"/>
            <p:cNvSpPr/>
            <p:nvPr/>
          </p:nvSpPr>
          <p:spPr>
            <a:xfrm flipV="1">
              <a:off x="4709160" y="1533960"/>
              <a:ext cx="974160" cy="67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Line 37"/>
            <p:cNvSpPr/>
            <p:nvPr/>
          </p:nvSpPr>
          <p:spPr>
            <a:xfrm>
              <a:off x="4709160" y="2216880"/>
              <a:ext cx="97416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Text Box 38"/>
            <p:cNvSpPr/>
            <p:nvPr/>
          </p:nvSpPr>
          <p:spPr>
            <a:xfrm>
              <a:off x="5653440" y="1341360"/>
              <a:ext cx="18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형상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form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Text Box 39"/>
            <p:cNvSpPr/>
            <p:nvPr/>
          </p:nvSpPr>
          <p:spPr>
            <a:xfrm>
              <a:off x="5686920" y="2630520"/>
              <a:ext cx="164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물질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matter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Text Box 40"/>
            <p:cNvSpPr/>
            <p:nvPr/>
          </p:nvSpPr>
          <p:spPr>
            <a:xfrm>
              <a:off x="3103200" y="3037680"/>
              <a:ext cx="27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아리스토텔레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형상과 물질을 가짐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2133720"/>
          <a:ext cx="8129520" cy="3240000"/>
        </p:xfrm>
        <a:graphic>
          <a:graphicData uri="http://schemas.openxmlformats.org/drawingml/2006/table">
            <a:tbl>
              <a:tblPr/>
              <a:tblGrid>
                <a:gridCol w="1079640"/>
                <a:gridCol w="3620880"/>
                <a:gridCol w="342900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데아의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현실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신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&lt;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관념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방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수학적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추상적 추론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 → 분류 → 질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상계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vs.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상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424" name="Picture 4" descr="Scan0037"/>
          <p:cNvPicPr/>
          <p:nvPr/>
        </p:nvPicPr>
        <p:blipFill>
          <a:blip r:embed="rId1"/>
          <a:srcRect l="3014" t="0" r="1567" b="0"/>
          <a:stretch/>
        </p:blipFill>
        <p:spPr>
          <a:xfrm>
            <a:off x="1763640" y="836640"/>
            <a:ext cx="5894640" cy="489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187280" y="1268280"/>
          <a:ext cx="6747120" cy="4564080"/>
        </p:xfrm>
        <a:graphic>
          <a:graphicData uri="http://schemas.openxmlformats.org/drawingml/2006/table">
            <a:tbl>
              <a:tblPr/>
              <a:tblGrid>
                <a:gridCol w="1449720"/>
                <a:gridCol w="2617560"/>
                <a:gridCol w="26798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천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지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06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위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아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6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특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 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0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5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에테르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4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흙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공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7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상하운동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+alph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무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~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제자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29" name="Picture 3" descr="Scan0037"/>
          <p:cNvPicPr/>
          <p:nvPr/>
        </p:nvPicPr>
        <p:blipFill>
          <a:blip r:embed="rId1"/>
          <a:srcRect l="18328" t="21372" r="35208" b="21828"/>
          <a:stretch/>
        </p:blipFill>
        <p:spPr>
          <a:xfrm>
            <a:off x="1763640" y="476280"/>
            <a:ext cx="5472360" cy="53053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471636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온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냉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습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조합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소와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성질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3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시혁명과 관료국가의 형성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84360" y="1844640"/>
            <a:ext cx="2808000" cy="100800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인구증가로 인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용력의 한계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4360" y="3357720"/>
            <a:ext cx="2808000" cy="151128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밀도 농업의 등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제노동에 의한 경작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 물 관리 시스템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5445000"/>
            <a:ext cx="2808000" cy="10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더 많은 잉여의 창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050920" y="2924280"/>
            <a:ext cx="180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052720" y="5013360"/>
            <a:ext cx="1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924360" y="3357720"/>
            <a:ext cx="2376360" cy="151128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잡한 기술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노동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관리 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924360" y="5229360"/>
            <a:ext cx="2376360" cy="129672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공출 저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재분배를 위한 복잡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정치경제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3565440" y="587700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565440" y="407664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804000" y="3357720"/>
            <a:ext cx="1943280" cy="3166920"/>
          </a:xfrm>
          <a:prstGeom prst="rect">
            <a:avLst/>
          </a:prstGeom>
          <a:solidFill>
            <a:srgbClr val="438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중앙집중적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료국가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형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6443640" y="407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6443640" y="5805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운동≒변화</a:t>
            </a:r>
            <a:br>
              <a:rPr sz="44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잠재적인 것이 현실화되는 과정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러나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본성이 실현되지 못하는 운동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강제된 운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 체계의 통일성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2160" y="198900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이론과 경험의 통일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식적이면서 탁월한 설명력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고도로 일관되면서 동시에 매우 포괄적인 이론 체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22076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25424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127008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127008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947960" y="3301920"/>
            <a:ext cx="628560" cy="540000"/>
            <a:chOff x="1947960" y="3301920"/>
            <a:chExt cx="628560" cy="540000"/>
          </a:xfrm>
        </p:grpSpPr>
        <p:sp>
          <p:nvSpPr>
            <p:cNvPr id="444" name="Oval 9"/>
            <p:cNvSpPr/>
            <p:nvPr/>
          </p:nvSpPr>
          <p:spPr>
            <a:xfrm>
              <a:off x="1947960" y="3315600"/>
              <a:ext cx="628560" cy="52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Oval 10"/>
            <p:cNvSpPr/>
            <p:nvPr/>
          </p:nvSpPr>
          <p:spPr>
            <a:xfrm>
              <a:off x="195444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Oval 11"/>
            <p:cNvSpPr/>
            <p:nvPr/>
          </p:nvSpPr>
          <p:spPr>
            <a:xfrm>
              <a:off x="1962000" y="3304800"/>
              <a:ext cx="593640" cy="527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Oval 12"/>
            <p:cNvSpPr/>
            <p:nvPr/>
          </p:nvSpPr>
          <p:spPr>
            <a:xfrm>
              <a:off x="1968480" y="3310200"/>
              <a:ext cx="565200" cy="492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Oval 13"/>
            <p:cNvSpPr/>
            <p:nvPr/>
          </p:nvSpPr>
          <p:spPr>
            <a:xfrm>
              <a:off x="2001240" y="3324240"/>
              <a:ext cx="501480" cy="3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49" name="Text Box 14"/>
          <p:cNvSpPr/>
          <p:nvPr/>
        </p:nvSpPr>
        <p:spPr>
          <a:xfrm>
            <a:off x="207936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1295280" y="3959280"/>
            <a:ext cx="201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353052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66af35"/>
              </a:gs>
              <a:gs pos="100000">
                <a:srgbClr val="588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AutoShape 17"/>
          <p:cNvSpPr/>
          <p:nvPr/>
        </p:nvSpPr>
        <p:spPr>
          <a:xfrm>
            <a:off x="3564000" y="3573360"/>
            <a:ext cx="2049480" cy="243072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720"/>
              <a:gd name="textAreaBottom" fmla="*/ 2331000 h 2430720"/>
            </a:gdLst>
            <a:ahLst/>
            <a:rect l="textAreaLeft" t="textAreaTop" r="textAreaRight" b="textAreaBottom"/>
            <a:pathLst>
              <a:path w="21600" h="25617">
                <a:moveTo>
                  <a:pt x="3600" y="0"/>
                </a:moveTo>
                <a:arcTo wR="3600" hR="3600" stAng="16200000" swAng="-5400000"/>
                <a:lnTo>
                  <a:pt x="0" y="22017"/>
                </a:lnTo>
                <a:arcTo wR="3600" hR="3600" stAng="10800000" swAng="-5400000"/>
                <a:lnTo>
                  <a:pt x="18000" y="25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357984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7ea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4" name="AutoShape 19"/>
          <p:cNvSpPr/>
          <p:nvPr/>
        </p:nvSpPr>
        <p:spPr>
          <a:xfrm>
            <a:off x="357984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f2c1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5" name="Oval 20"/>
          <p:cNvSpPr/>
          <p:nvPr/>
        </p:nvSpPr>
        <p:spPr>
          <a:xfrm>
            <a:off x="4257720" y="3317760"/>
            <a:ext cx="628560" cy="519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Oval 21"/>
          <p:cNvSpPr/>
          <p:nvPr/>
        </p:nvSpPr>
        <p:spPr>
          <a:xfrm>
            <a:off x="4264200" y="3303720"/>
            <a:ext cx="607680" cy="5396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7" name="Oval 22"/>
          <p:cNvSpPr/>
          <p:nvPr/>
        </p:nvSpPr>
        <p:spPr>
          <a:xfrm>
            <a:off x="4272120" y="330516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8" name="Oval 23"/>
          <p:cNvSpPr/>
          <p:nvPr/>
        </p:nvSpPr>
        <p:spPr>
          <a:xfrm>
            <a:off x="4278240" y="3311640"/>
            <a:ext cx="565200" cy="4903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9" name="Oval 24"/>
          <p:cNvSpPr/>
          <p:nvPr/>
        </p:nvSpPr>
        <p:spPr>
          <a:xfrm>
            <a:off x="4313160" y="3324240"/>
            <a:ext cx="500040" cy="39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438912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3605040" y="3959280"/>
            <a:ext cx="20098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2" name="AutoShape 27"/>
          <p:cNvSpPr/>
          <p:nvPr/>
        </p:nvSpPr>
        <p:spPr>
          <a:xfrm>
            <a:off x="584028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c16237"/>
              </a:gs>
              <a:gs pos="100000">
                <a:srgbClr val="ab4e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AutoShape 28"/>
          <p:cNvSpPr/>
          <p:nvPr/>
        </p:nvSpPr>
        <p:spPr>
          <a:xfrm>
            <a:off x="587232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4" name="AutoShape 29"/>
          <p:cNvSpPr/>
          <p:nvPr/>
        </p:nvSpPr>
        <p:spPr>
          <a:xfrm>
            <a:off x="588960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2bc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5" name="AutoShape 30"/>
          <p:cNvSpPr/>
          <p:nvPr/>
        </p:nvSpPr>
        <p:spPr>
          <a:xfrm>
            <a:off x="588960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d8cc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66" name="Group 31"/>
          <p:cNvGrpSpPr/>
          <p:nvPr/>
        </p:nvGrpSpPr>
        <p:grpSpPr>
          <a:xfrm>
            <a:off x="6567480" y="3301920"/>
            <a:ext cx="628560" cy="540000"/>
            <a:chOff x="6567480" y="3301920"/>
            <a:chExt cx="628560" cy="540000"/>
          </a:xfrm>
        </p:grpSpPr>
        <p:sp>
          <p:nvSpPr>
            <p:cNvPr id="467" name="Oval 32"/>
            <p:cNvSpPr/>
            <p:nvPr/>
          </p:nvSpPr>
          <p:spPr>
            <a:xfrm>
              <a:off x="6567480" y="3315600"/>
              <a:ext cx="628560" cy="52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Oval 33"/>
            <p:cNvSpPr/>
            <p:nvPr/>
          </p:nvSpPr>
          <p:spPr>
            <a:xfrm>
              <a:off x="657396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Oval 34"/>
            <p:cNvSpPr/>
            <p:nvPr/>
          </p:nvSpPr>
          <p:spPr>
            <a:xfrm>
              <a:off x="6581520" y="3304800"/>
              <a:ext cx="593640" cy="527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Oval 35"/>
            <p:cNvSpPr/>
            <p:nvPr/>
          </p:nvSpPr>
          <p:spPr>
            <a:xfrm>
              <a:off x="6588000" y="3310200"/>
              <a:ext cx="565200" cy="492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Oval 36"/>
            <p:cNvSpPr/>
            <p:nvPr/>
          </p:nvSpPr>
          <p:spPr>
            <a:xfrm>
              <a:off x="6620760" y="3324240"/>
              <a:ext cx="501480" cy="3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2" name="Text Box 37"/>
          <p:cNvSpPr/>
          <p:nvPr/>
        </p:nvSpPr>
        <p:spPr>
          <a:xfrm>
            <a:off x="669744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3" name="Text Box 38"/>
          <p:cNvSpPr/>
          <p:nvPr/>
        </p:nvSpPr>
        <p:spPr>
          <a:xfrm>
            <a:off x="5915160" y="395928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연스런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제된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4" name="AutoShape 39"/>
          <p:cNvSpPr/>
          <p:nvPr/>
        </p:nvSpPr>
        <p:spPr>
          <a:xfrm>
            <a:off x="3021120" y="3946680"/>
            <a:ext cx="863640" cy="576000"/>
          </a:xfrm>
          <a:prstGeom prst="leftRightArrow">
            <a:avLst>
              <a:gd name="adj1" fmla="val 50000"/>
              <a:gd name="adj2" fmla="val 2984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AutoShape 40"/>
          <p:cNvSpPr/>
          <p:nvPr/>
        </p:nvSpPr>
        <p:spPr>
          <a:xfrm>
            <a:off x="5324400" y="401940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48" name="Picture 4" descr="07Ziggurat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2952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teotihuacan"/>
          <p:cNvPicPr/>
          <p:nvPr/>
        </p:nvPicPr>
        <p:blipFill>
          <a:blip r:embed="rId2"/>
          <a:stretch/>
        </p:blipFill>
        <p:spPr>
          <a:xfrm>
            <a:off x="4284720" y="3429000"/>
            <a:ext cx="4995720" cy="3500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reat%20Sphinx,%20Chephren%20Pyramid,%20Giza,%20Egypt"/>
          <p:cNvPicPr/>
          <p:nvPr/>
        </p:nvPicPr>
        <p:blipFill>
          <a:blip r:embed="rId3"/>
          <a:stretch/>
        </p:blipFill>
        <p:spPr>
          <a:xfrm>
            <a:off x="-635040" y="3429000"/>
            <a:ext cx="4919760" cy="342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Figura%2006%20Ziggurat02%20Ur%20color"/>
          <p:cNvPicPr/>
          <p:nvPr/>
        </p:nvPicPr>
        <p:blipFill>
          <a:blip r:embed="rId4"/>
          <a:stretch/>
        </p:blipFill>
        <p:spPr>
          <a:xfrm>
            <a:off x="4284720" y="547560"/>
            <a:ext cx="5329080" cy="2881440"/>
          </a:xfrm>
          <a:prstGeom prst="rect">
            <a:avLst/>
          </a:prstGeom>
          <a:ln w="0">
            <a:noFill/>
          </a:ln>
        </p:spPr>
      </p:pic>
      <p:sp>
        <p:nvSpPr>
          <p:cNvPr id="352" name="직사각형 1"/>
          <p:cNvSpPr/>
          <p:nvPr/>
        </p:nvSpPr>
        <p:spPr>
          <a:xfrm>
            <a:off x="1835280" y="5516640"/>
            <a:ext cx="5545080" cy="792000"/>
          </a:xfrm>
          <a:prstGeom prst="rect">
            <a:avLst/>
          </a:prstGeom>
          <a:solidFill>
            <a:srgbClr val="53548a">
              <a:alpha val="83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고도의 종교적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신화적 이론과 고도의 지식과 기술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고도의 통치 관리 기술 없이는 문명 지탱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그림 2주 상형문자"/>
          <p:cNvPicPr/>
          <p:nvPr/>
        </p:nvPicPr>
        <p:blipFill>
          <a:blip r:embed="rId1"/>
          <a:srcRect l="9745" t="3015" r="54375" b="61625"/>
          <a:stretch/>
        </p:blipFill>
        <p:spPr>
          <a:xfrm>
            <a:off x="539640" y="1517760"/>
            <a:ext cx="3062520" cy="2073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3876840" y="1517760"/>
            <a:ext cx="3693960" cy="207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http://www.postech.ac.kr/press/hs/collectedata/990304191151Moscow_papyrus.jpeg"/>
          <p:cNvPicPr/>
          <p:nvPr/>
        </p:nvPicPr>
        <p:blipFill>
          <a:blip r:embed="rId3"/>
          <a:stretch/>
        </p:blipFill>
        <p:spPr>
          <a:xfrm>
            <a:off x="539640" y="3770280"/>
            <a:ext cx="3062520" cy="26114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1348920"/>
            <a:ext cx="735012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7" name="Picture 4" descr="스톤헨지 일출"/>
          <p:cNvPicPr/>
          <p:nvPr/>
        </p:nvPicPr>
        <p:blipFill>
          <a:blip r:embed="rId4"/>
          <a:srcRect l="0" t="0" r="0" b="7714"/>
          <a:stretch/>
        </p:blipFill>
        <p:spPr>
          <a:xfrm>
            <a:off x="3876840" y="3760920"/>
            <a:ext cx="3693960" cy="2620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nut_geb"/>
          <p:cNvPicPr/>
          <p:nvPr/>
        </p:nvPicPr>
        <p:blipFill>
          <a:blip r:embed="rId5"/>
          <a:stretch/>
        </p:blipFill>
        <p:spPr>
          <a:xfrm>
            <a:off x="539640" y="1517760"/>
            <a:ext cx="7031160" cy="5273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1439640" y="83664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대 문명을 지탱하는 데 필요했던 지식과 기술은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 지식의 특징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실용적 필요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신화적 설명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platomosaic"/>
          <p:cNvPicPr/>
          <p:nvPr/>
        </p:nvPicPr>
        <p:blipFill>
          <a:blip r:embed="rId1"/>
          <a:stretch/>
        </p:blipFill>
        <p:spPr>
          <a:xfrm>
            <a:off x="0" y="-2522520"/>
            <a:ext cx="9144000" cy="115012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18920" y="5495760"/>
            <a:ext cx="5761080" cy="1362240"/>
          </a:xfrm>
          <a:prstGeom prst="rect">
            <a:avLst/>
          </a:prstGeom>
          <a:solidFill>
            <a:srgbClr val="424456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헬레나 시대의 그리스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Hellenic era, 600-300 B.C.)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66" name="Picture 6" descr="그리스 지도"/>
          <p:cNvPicPr/>
          <p:nvPr/>
        </p:nvPicPr>
        <p:blipFill>
          <a:blip r:embed="rId1"/>
          <a:stretch/>
        </p:blipFill>
        <p:spPr>
          <a:xfrm>
            <a:off x="0" y="531720"/>
            <a:ext cx="9191520" cy="5545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289080" y="836640"/>
            <a:ext cx="3851280" cy="2663640"/>
          </a:xfrm>
          <a:prstGeom prst="rect">
            <a:avLst/>
          </a:prstGeom>
          <a:solidFill>
            <a:srgbClr val="31334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척박한 생산 조건과 지형 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업적이고 외향적인 해상문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적으로 분산된 도시국가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중앙집중적인 관료국가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 구조에 대한 합리적 토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대적으로 비옥했던 이오니아 지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8" name="Oval 7"/>
          <p:cNvSpPr/>
          <p:nvPr/>
        </p:nvSpPr>
        <p:spPr>
          <a:xfrm>
            <a:off x="4788000" y="1989000"/>
            <a:ext cx="1365120" cy="142092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Thales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iletus, 624?-548/545?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과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자연철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1" name="Picture 5" descr="Thales"/>
          <p:cNvPicPr/>
          <p:nvPr/>
        </p:nvPicPr>
        <p:blipFill>
          <a:blip r:embed="rId1"/>
          <a:stretch/>
        </p:blipFill>
        <p:spPr>
          <a:xfrm>
            <a:off x="3564000" y="836640"/>
            <a:ext cx="1871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3:59:03Z</dcterms:created>
  <dc:creator>zolaist</dc:creator>
  <dc:description/>
  <dc:language>en-US</dc:language>
  <cp:lastModifiedBy>정동욱</cp:lastModifiedBy>
  <dcterms:modified xsi:type="dcterms:W3CDTF">2013-09-10T06:07:40Z</dcterms:modified>
  <cp:revision>146</cp:revision>
  <dc:subject/>
  <dc:title>인쇄술 혁명</dc:title>
</cp:coreProperties>
</file>